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2D4-407A-4ED8-8A7D-490B7B04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6A5-0EFB-4A5C-BE7A-399BBCB1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EBD-30D8-4F62-A294-640960B6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C84-C163-4994-BA10-D57724A0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370-1626-4089-A0DD-FA68C5D4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B16-99FB-46FB-A618-4A0D1F87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D8F-6A60-40EF-924D-3EA94007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472-29CA-472A-8DF5-5E4DFA3A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736-A8D2-445F-8E8B-520CFA94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626-25E0-4E8E-8CAC-53FE0E50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4D3-6A4C-4EBB-B93A-B1F7DBE2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1A0-145C-4858-8E71-930B75F5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0000-E487-410C-80D4-6883A275B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Устный счё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556272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 txBox="1"/>
          <p:nvPr/>
        </p:nvSpPr>
        <p:spPr>
          <a:xfrm>
            <a:off x="601992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563868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33:56Z</dcterms:created>
  <dc:creator>Шаповаловы</dc:creator>
  <dc:description/>
  <dc:language>en-US</dc:language>
  <cp:lastModifiedBy>ник</cp:lastModifiedBy>
  <dcterms:modified xsi:type="dcterms:W3CDTF">2011-11-21T12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